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91154-3B53-4112-BC72-56D96A2CE7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79A27-F4F7-4AB9-867A-DB5D6ABB09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B14EB-D212-4C7B-B3D2-9BBBFA2D36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ECA35-049C-4E6C-B61C-DB1A6B79D1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564-4A72-4E52-8098-292C7A18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D64-63DA-43D0-81B2-7F42719C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A7B-FC7F-40CE-AFBB-C7DD243F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B3A-588D-4653-80CC-9F2BC750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1FF-06C7-42C7-A60A-19A89385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504-11BE-4B94-B594-2BA7B40E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4F6-4F55-4A66-9301-947EB4A0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06C-EF13-4696-9339-90648F11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D40-F06F-4892-8D5B-197AB076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D15-7738-4309-8145-95EEDC21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DF7-7DE9-491C-A99B-A699108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218-482B-4536-9091-872E9E0C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41D7A-D137-47BB-9DFA-8A9B3124414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2425680" y="2298600"/>
            <a:ext cx="4292640" cy="293868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2979720" y="3159000"/>
            <a:ext cx="3186000" cy="1150920"/>
            <a:chOff x="297972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20400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88548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297972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639880" y="905040"/>
            <a:ext cx="4819680" cy="1180800"/>
            <a:chOff x="2639880" y="905040"/>
            <a:chExt cx="4819680" cy="1180800"/>
          </a:xfrm>
        </p:grpSpPr>
        <p:sp>
          <p:nvSpPr>
            <p:cNvPr id="65" name="Text Box 2"/>
            <p:cNvSpPr/>
            <p:nvPr/>
          </p:nvSpPr>
          <p:spPr>
            <a:xfrm>
              <a:off x="389880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 </a:t>
              </a: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夹竹桃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639880" y="905040"/>
              <a:ext cx="1180800" cy="1180800"/>
              <a:chOff x="263988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63988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86272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2"/>
          <p:cNvSpPr/>
          <p:nvPr/>
        </p:nvSpPr>
        <p:spPr>
          <a:xfrm>
            <a:off x="790560" y="32083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开门见山地指出夹竹桃是“我”最喜爱的花。“但是”表示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转折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突出夹竹桃是“我”最喜爱的花。这是一种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欲扬先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写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992160" y="1698480"/>
            <a:ext cx="74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夹竹桃不是名贵的花，也不是最美丽的花；但是，它却是我最喜爱的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977760" y="371808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通过对夹竹桃的细致描述，表现了它默默无闻、兢兢业业、富有韧性的品格，表达了作者对夹竹桃及其精神的喜爱与赞美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文表现了夹竹桃怎样的品格？表达了作者怎样的思想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内容占位符 2"/>
          <p:cNvSpPr/>
          <p:nvPr/>
        </p:nvSpPr>
        <p:spPr>
          <a:xfrm>
            <a:off x="851040" y="2454120"/>
            <a:ext cx="764532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在“我”的故乡的那个城市里，夹竹桃是一种怎样的花，它是什么样子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1197000" y="3541680"/>
            <a:ext cx="725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夹竹桃在“我”故乡的那个城市里，几乎家家都种，非常普遍，也非常普通。夹竹桃长着“绿蜡似的叶子和红霞或白雪似的花朵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861840" y="1947960"/>
            <a:ext cx="74631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我”的家里还种着哪些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它们又是什么样子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276200" y="3030480"/>
            <a:ext cx="704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”家院子里还种着迎春花、杏花、海棠等十四种花，这些花开得花团锦簇、五彩缤纷、美不胜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内容占位符 2"/>
          <p:cNvSpPr/>
          <p:nvPr/>
        </p:nvSpPr>
        <p:spPr>
          <a:xfrm>
            <a:off x="804960" y="147492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是怎样把夹竹桃的特点写清楚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1230480" y="2184480"/>
            <a:ext cx="70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用了比喻、拟人、排比等修辞和细致生动的语言，展示了夹竹桃的外形之美、花期之长；用对比、反衬的方法，表现了夹竹桃不同于其他花的默默无闻、兢兢业业、富有韧性的品格之美；反问的使用表现了作者对夹竹桃这些特点的赞美和喜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悟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我”为什么最喜欢夹竹桃这种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1198440" y="241920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其他的花只是季节性的花，只能在适宜的时间里显示它们的美丽。而夹竹桃的花期长，不管外界条件怎样变化，它始终如一，不动声色，默默无闻地开放。夹竹桃这种兢兢业业、富有韧性的品格令“我”喜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4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矩形 2"/>
          <p:cNvSpPr/>
          <p:nvPr/>
        </p:nvSpPr>
        <p:spPr>
          <a:xfrm>
            <a:off x="2127240" y="217188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总起：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夹竹桃是“我”最喜爱的花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1231560" y="27788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夹竹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3100320" y="2773440"/>
            <a:ext cx="348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故乡夹竹桃之多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两色夹竹桃相映成趣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默默无闻的夹竹桃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月光下的夹竹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127240" y="52419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总结：喜爱的原因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7313760" y="3056040"/>
            <a:ext cx="127764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富有韧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默默无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2255400" y="381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分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5022720" y="49179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韧性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引起幻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左大括号 11"/>
          <p:cNvSpPr/>
          <p:nvPr/>
        </p:nvSpPr>
        <p:spPr>
          <a:xfrm>
            <a:off x="1933560" y="2286000"/>
            <a:ext cx="220680" cy="3232080"/>
          </a:xfrm>
          <a:custGeom>
            <a:avLst/>
            <a:gdLst>
              <a:gd name="textAreaLeft" fmla="*/ 141120 w 220680"/>
              <a:gd name="textAreaRight" fmla="*/ 221040 w 220680"/>
              <a:gd name="textAreaTop" fmla="*/ 5760 h 3232080"/>
              <a:gd name="textAreaBottom" fmla="*/ 3226320 h 323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3"/>
                </a:cubicBezTo>
                <a:lnTo>
                  <a:pt x="10800" y="10677"/>
                </a:lnTo>
                <a:cubicBezTo>
                  <a:pt x="10800" y="10739"/>
                  <a:pt x="5400" y="10800"/>
                  <a:pt x="0" y="10800"/>
                </a:cubicBezTo>
                <a:cubicBezTo>
                  <a:pt x="5400" y="10800"/>
                  <a:pt x="10800" y="10862"/>
                  <a:pt x="10800" y="10923"/>
                </a:cubicBezTo>
                <a:lnTo>
                  <a:pt x="10800" y="21477"/>
                </a:lnTo>
                <a:cubicBezTo>
                  <a:pt x="10800" y="2153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左大括号 19"/>
          <p:cNvSpPr/>
          <p:nvPr/>
        </p:nvSpPr>
        <p:spPr>
          <a:xfrm>
            <a:off x="2909880" y="2805120"/>
            <a:ext cx="220680" cy="2206440"/>
          </a:xfrm>
          <a:custGeom>
            <a:avLst/>
            <a:gdLst>
              <a:gd name="textAreaLeft" fmla="*/ 141120 w 220680"/>
              <a:gd name="textAreaRight" fmla="*/ 221040 w 220680"/>
              <a:gd name="textAreaTop" fmla="*/ 5400 h 2206440"/>
              <a:gd name="textAreaBottom" fmla="*/ 2201040 h 220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左大括号 20"/>
          <p:cNvSpPr/>
          <p:nvPr/>
        </p:nvSpPr>
        <p:spPr>
          <a:xfrm>
            <a:off x="4800600" y="5006880"/>
            <a:ext cx="255600" cy="1005120"/>
          </a:xfrm>
          <a:custGeom>
            <a:avLst/>
            <a:gdLst>
              <a:gd name="textAreaLeft" fmla="*/ 163440 w 255600"/>
              <a:gd name="textAreaRight" fmla="*/ 255600 w 255600"/>
              <a:gd name="textAreaTop" fmla="*/ 6480 h 1005120"/>
              <a:gd name="textAreaBottom" fmla="*/ 998640 h 10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9"/>
                  <a:pt x="10800" y="458"/>
                </a:cubicBezTo>
                <a:lnTo>
                  <a:pt x="10800" y="10342"/>
                </a:lnTo>
                <a:cubicBezTo>
                  <a:pt x="10800" y="10571"/>
                  <a:pt x="5400" y="10800"/>
                  <a:pt x="0" y="10800"/>
                </a:cubicBezTo>
                <a:cubicBezTo>
                  <a:pt x="5400" y="10800"/>
                  <a:pt x="10800" y="11029"/>
                  <a:pt x="10800" y="11258"/>
                </a:cubicBezTo>
                <a:lnTo>
                  <a:pt x="10800" y="21142"/>
                </a:lnTo>
                <a:cubicBezTo>
                  <a:pt x="10800" y="2137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左大括号 21"/>
          <p:cNvSpPr/>
          <p:nvPr/>
        </p:nvSpPr>
        <p:spPr>
          <a:xfrm flipH="1">
            <a:off x="6919920" y="2227320"/>
            <a:ext cx="357120" cy="3909960"/>
          </a:xfrm>
          <a:custGeom>
            <a:avLst/>
            <a:gdLst>
              <a:gd name="textAreaLeft" fmla="*/ 228600 w 357120"/>
              <a:gd name="textAreaRight" fmla="*/ 357840 w 357120"/>
              <a:gd name="textAreaTop" fmla="*/ 9000 h 3909960"/>
              <a:gd name="textAreaBottom" fmla="*/ 3900960 h 390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内容占位符 2"/>
          <p:cNvSpPr/>
          <p:nvPr/>
        </p:nvSpPr>
        <p:spPr>
          <a:xfrm>
            <a:off x="966960" y="2637000"/>
            <a:ext cx="741672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通过对夹竹桃的描写，表达了对默默无闻、兢兢业业、富有韧性的品格的赞美，也寄寓了作者的趣味和追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0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5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夹竹桃（节选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好多好多年，我就在这样的夹竹桃下面走出走进。最初我的个儿矮，必须仰头才能看到花朵。后来，我逐渐长高了，夹竹桃在我眼中也就逐渐矮了起来。等到我平视就可以看到花的时候，我离开了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我离开了家，过了许多年，走过许多地方。我曾在不同的地方看到过夹竹桃，但是都没有留下深刻的印象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两年前，我访问了缅（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mi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ǎ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）甸。在仰光开过几天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内容占位符 2"/>
          <p:cNvSpPr/>
          <p:nvPr/>
        </p:nvSpPr>
        <p:spPr>
          <a:xfrm>
            <a:off x="996840" y="136692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以后，缅甸的许多朋友热情地陪我们到缅甸北部古都蒲甘去游览。这地方以佛塔著名，有“万塔之城”的称号。据说，当年确有万塔。到了今天，数目虽然没有那样多了，但是，纵目四望，嶙嶙峋（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ú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）峋，群塔簇天，一个个从地里涌出，宛如阳朔群山，又像是云南的石林，用“雨后春笋”这一句老话，差堪比拟。虽然花草树木都还是绿的，但是时令究竟是冬天了，一片萧瑟荒寒气象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然而就在这地方，在我们住的大楼前，我却意外地发现了老朋友夹竹桃。一株株都跟一层楼差不多高，以至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43120" y="253836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感情地朗读课文，懂得作者为什么喜欢夹竹桃，体会夹竹桃的妙处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运用对比和想象描写植物的方法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内容占位符 2"/>
          <p:cNvSpPr/>
          <p:nvPr/>
        </p:nvSpPr>
        <p:spPr>
          <a:xfrm>
            <a:off x="996840" y="136692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最初竟没有认出它们来。花色比国内的要多，除了红色的和白色的以外，记得还有黄色的。叶子比我以前看到的更绿得像绿蜡，花朵开在高高的枝头，更像片片的红霞、团团的白雪、朵朵的黄云。苍郁繁茂，浓翠逼人，同荒寒的古城形成了强烈的对比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我每天就在这样的夹竹桃下走出走进。晚上同缅甸朋友们在楼上凭栏闲眺，畅谈各种各样的问题，谈蒲甘的历史，谈中缅文化的交流，谈中缅两国人民的友谊。在这时候，远处的古塔渐渐隐入暮霭（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ǎ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i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）中，近处的几个古塔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内容占位符 2"/>
          <p:cNvSpPr/>
          <p:nvPr/>
        </p:nvSpPr>
        <p:spPr>
          <a:xfrm>
            <a:off x="949320" y="1271520"/>
            <a:ext cx="7612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上却给电灯照得通明，望之如灵山幻境。我伸手到栏外，就可以抓到夹竹桃的顶枝。花香也一阵一阵地从下面飘上楼来，仿佛把中缅友谊熏得更加芬芳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就这样，在对于夹竹桃的婉美动人的回忆里，又涂上了一层绚烂夺目的中缅人民友谊的色彩。我从此更爱夹竹桃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1074600" y="1944720"/>
            <a:ext cx="72342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竹外桃花三两枝，春江水暖鸭先知。蒌蒿满地芦芽短，正是河豚欲上时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惠崇春江晓景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苏轼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喜上苑韶华渐布。又似瑞霞低拥，却恐随风飞去。要留最妍丽，须且闲凭佳句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夹竹桃花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咏题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曹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间四月芳菲尽，山寺桃花始盛开。长恨春归无觅处，不知转入此中来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林寺桃花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白居易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4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2"/>
          <p:cNvSpPr/>
          <p:nvPr/>
        </p:nvSpPr>
        <p:spPr>
          <a:xfrm>
            <a:off x="1185840" y="245124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夹竹桃的花语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59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矩形 1"/>
          <p:cNvSpPr/>
          <p:nvPr/>
        </p:nvSpPr>
        <p:spPr>
          <a:xfrm>
            <a:off x="1359000" y="3251160"/>
            <a:ext cx="671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色夹竹桃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纯洁不变的友情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桃色夹竹桃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咒骂，注意危险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黄色夹竹桃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深刻的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64" name="矩形 11"/>
          <p:cNvSpPr/>
          <p:nvPr/>
        </p:nvSpPr>
        <p:spPr>
          <a:xfrm>
            <a:off x="1017720" y="22683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首诗歌是电视系列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话说长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题歌的歌词。诗歌使用第二人称，采用拟人的手法，把长江比作母亲。从空间和时间两个角度入手，赞颂了长江的宏伟、壮观，表达了对长江的热爱和依恋之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2"/>
          <p:cNvSpPr/>
          <p:nvPr/>
        </p:nvSpPr>
        <p:spPr>
          <a:xfrm>
            <a:off x="773280" y="1773360"/>
            <a:ext cx="74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夹竹桃的哪些妙处引起了作者的喜爱？用自己的话说一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1123920" y="2941560"/>
            <a:ext cx="68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夹竹桃给客人宾至如归的感觉；红白相映，奇妙有趣；花事繁忙的季节，默默开放，在不声不响中装点世界；一年三季花开不败的韧性；月光下引起人的幻想。这些妙处引起了作者的喜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2"/>
          <p:cNvSpPr/>
          <p:nvPr/>
        </p:nvSpPr>
        <p:spPr>
          <a:xfrm>
            <a:off x="682560" y="158436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根据课文内容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092240" y="2327400"/>
            <a:ext cx="73738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客人一走进大门，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扑鼻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的是一阵幽香，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入目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的是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绿蜡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似的叶子和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红霞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白雪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似的花朵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2)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红色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的花朵让我想到火，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白色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的花朵让我想到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2"/>
          <p:cNvSpPr/>
          <p:nvPr/>
        </p:nvSpPr>
        <p:spPr>
          <a:xfrm>
            <a:off x="919080" y="183672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背诵课文最后两个自然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1376280" y="2530440"/>
            <a:ext cx="68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自然段描绘了夹竹桃的花朵、花香、花影，然后写了作者的幻想。第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自然段写了作者喜爱夹竹桃的原因。要在理清自然段层次的基础上，熟读和理解，进而背诵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7167"/>
          <p:cNvSpPr/>
          <p:nvPr/>
        </p:nvSpPr>
        <p:spPr>
          <a:xfrm>
            <a:off x="1359000" y="2489040"/>
            <a:ext cx="690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为下列加点字选择正确的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ē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ē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ā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参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人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参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ā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夹竹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夹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夹肢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1029960" y="47829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71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6"/>
          <p:cNvSpPr/>
          <p:nvPr/>
        </p:nvSpPr>
        <p:spPr>
          <a:xfrm>
            <a:off x="3180960" y="4773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71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7"/>
          <p:cNvSpPr/>
          <p:nvPr/>
        </p:nvSpPr>
        <p:spPr>
          <a:xfrm>
            <a:off x="5184720" y="3703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71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8"/>
          <p:cNvSpPr/>
          <p:nvPr/>
        </p:nvSpPr>
        <p:spPr>
          <a:xfrm>
            <a:off x="3335400" y="3724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71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9"/>
          <p:cNvSpPr/>
          <p:nvPr/>
        </p:nvSpPr>
        <p:spPr>
          <a:xfrm>
            <a:off x="1009440" y="3706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71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0"/>
          <p:cNvSpPr/>
          <p:nvPr/>
        </p:nvSpPr>
        <p:spPr>
          <a:xfrm>
            <a:off x="5190840" y="47894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71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9"/>
          <p:cNvSpPr/>
          <p:nvPr/>
        </p:nvSpPr>
        <p:spPr>
          <a:xfrm>
            <a:off x="2322000" y="3692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ā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0"/>
          <p:cNvSpPr/>
          <p:nvPr/>
        </p:nvSpPr>
        <p:spPr>
          <a:xfrm>
            <a:off x="4386600" y="369576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ē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1"/>
          <p:cNvSpPr/>
          <p:nvPr/>
        </p:nvSpPr>
        <p:spPr>
          <a:xfrm>
            <a:off x="6465240" y="3691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ēn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2"/>
          <p:cNvSpPr/>
          <p:nvPr/>
        </p:nvSpPr>
        <p:spPr>
          <a:xfrm>
            <a:off x="2697120" y="478152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3"/>
          <p:cNvSpPr/>
          <p:nvPr/>
        </p:nvSpPr>
        <p:spPr>
          <a:xfrm>
            <a:off x="4519440" y="477360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6828840" y="474516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g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3"/>
          <p:cNvSpPr/>
          <p:nvPr/>
        </p:nvSpPr>
        <p:spPr>
          <a:xfrm>
            <a:off x="1703520" y="1893960"/>
            <a:ext cx="645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比一比，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亦（　　　　）      榆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奕（　　　　）　　　愉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宛（　　　　）      棠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腕（　　　　）　    堂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左大括号 2"/>
          <p:cNvSpPr/>
          <p:nvPr/>
        </p:nvSpPr>
        <p:spPr>
          <a:xfrm>
            <a:off x="1547640" y="2638440"/>
            <a:ext cx="155880" cy="914400"/>
          </a:xfrm>
          <a:custGeom>
            <a:avLst/>
            <a:gdLst>
              <a:gd name="textAreaLeft" fmla="*/ 99720 w 155880"/>
              <a:gd name="textAreaRight" fmla="*/ 15624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左大括号 9"/>
          <p:cNvSpPr/>
          <p:nvPr/>
        </p:nvSpPr>
        <p:spPr>
          <a:xfrm>
            <a:off x="4632480" y="372420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左大括号 10"/>
          <p:cNvSpPr/>
          <p:nvPr/>
        </p:nvSpPr>
        <p:spPr>
          <a:xfrm>
            <a:off x="4632480" y="26384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左大括号 11"/>
          <p:cNvSpPr/>
          <p:nvPr/>
        </p:nvSpPr>
        <p:spPr>
          <a:xfrm>
            <a:off x="1547640" y="3724200"/>
            <a:ext cx="155880" cy="914400"/>
          </a:xfrm>
          <a:custGeom>
            <a:avLst/>
            <a:gdLst>
              <a:gd name="textAreaLeft" fmla="*/ 99720 w 155880"/>
              <a:gd name="textAreaRight" fmla="*/ 15624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2471040" y="2552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云亦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2471040" y="3092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神采奕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5"/>
          <p:cNvSpPr/>
          <p:nvPr/>
        </p:nvSpPr>
        <p:spPr>
          <a:xfrm>
            <a:off x="5756040" y="253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榆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6"/>
          <p:cNvSpPr/>
          <p:nvPr/>
        </p:nvSpPr>
        <p:spPr>
          <a:xfrm>
            <a:off x="5708160" y="3116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愉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7"/>
          <p:cNvSpPr/>
          <p:nvPr/>
        </p:nvSpPr>
        <p:spPr>
          <a:xfrm>
            <a:off x="2668320" y="364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宛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8"/>
          <p:cNvSpPr/>
          <p:nvPr/>
        </p:nvSpPr>
        <p:spPr>
          <a:xfrm>
            <a:off x="2663640" y="4219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手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9"/>
          <p:cNvSpPr/>
          <p:nvPr/>
        </p:nvSpPr>
        <p:spPr>
          <a:xfrm>
            <a:off x="5708160" y="366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海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0"/>
          <p:cNvSpPr/>
          <p:nvPr/>
        </p:nvSpPr>
        <p:spPr>
          <a:xfrm>
            <a:off x="5722560" y="4178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8"/>
          <p:cNvGrpSpPr/>
          <p:nvPr/>
        </p:nvGrpSpPr>
        <p:grpSpPr>
          <a:xfrm>
            <a:off x="695160" y="1014480"/>
            <a:ext cx="7896240" cy="5508720"/>
            <a:chOff x="695160" y="1014480"/>
            <a:chExt cx="7896240" cy="5508720"/>
          </a:xfrm>
        </p:grpSpPr>
        <p:sp>
          <p:nvSpPr>
            <p:cNvPr id="74" name="圆角矩形 4"/>
            <p:cNvSpPr/>
            <p:nvPr/>
          </p:nvSpPr>
          <p:spPr>
            <a:xfrm>
              <a:off x="695160" y="3781800"/>
              <a:ext cx="320688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读课文，说说在“我”的故乡的那个城市里，夹竹桃是一种怎样的花，它是什么样子的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5"/>
            <p:cNvSpPr/>
            <p:nvPr/>
          </p:nvSpPr>
          <p:spPr>
            <a:xfrm>
              <a:off x="5333760" y="3889440"/>
              <a:ext cx="325764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“我”的家里还种着哪些花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它们又是什么样子的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6"/>
            <p:cNvSpPr/>
            <p:nvPr/>
          </p:nvSpPr>
          <p:spPr>
            <a:xfrm>
              <a:off x="5306760" y="5239080"/>
              <a:ext cx="328464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悟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“我”为什么最喜欢夹竹桃这种花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7"/>
            <p:cNvSpPr/>
            <p:nvPr/>
          </p:nvSpPr>
          <p:spPr>
            <a:xfrm>
              <a:off x="695160" y="5387760"/>
              <a:ext cx="320688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作者是怎样把夹竹桃的特点写清楚的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组合 3"/>
            <p:cNvGrpSpPr/>
            <p:nvPr/>
          </p:nvGrpSpPr>
          <p:grpSpPr>
            <a:xfrm>
              <a:off x="2283120" y="1014480"/>
              <a:ext cx="4766760" cy="5508720"/>
              <a:chOff x="2283120" y="1014480"/>
              <a:chExt cx="4766760" cy="5508720"/>
            </a:xfrm>
          </p:grpSpPr>
          <p:pic>
            <p:nvPicPr>
              <p:cNvPr id="7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3120" y="1014480"/>
                <a:ext cx="476676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矩形 1"/>
              <p:cNvSpPr/>
              <p:nvPr/>
            </p:nvSpPr>
            <p:spPr>
              <a:xfrm>
                <a:off x="2653560" y="1812600"/>
                <a:ext cx="3938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课文表现了夹竹桃怎样的品格？表达了作者怎样的思想感情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矩形 2"/>
              <p:cNvSpPr/>
              <p:nvPr/>
            </p:nvSpPr>
            <p:spPr>
              <a:xfrm>
                <a:off x="4781520" y="12409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韧性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3"/>
          <p:cNvSpPr/>
          <p:nvPr/>
        </p:nvSpPr>
        <p:spPr>
          <a:xfrm>
            <a:off x="1603440" y="1760400"/>
            <a:ext cx="681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看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óng qià                bīn   fēn                 xūn  rǎ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èng xiàn                 yè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é                   yà zhō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6" descr=""/>
          <p:cNvPicPr/>
          <p:nvPr/>
        </p:nvPicPr>
        <p:blipFill>
          <a:blip r:embed="rId1"/>
          <a:stretch/>
        </p:blipFill>
        <p:spPr>
          <a:xfrm>
            <a:off x="1608120" y="2830680"/>
            <a:ext cx="1451160" cy="73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2"/>
          <a:stretch/>
        </p:blipFill>
        <p:spPr>
          <a:xfrm>
            <a:off x="6216480" y="3933720"/>
            <a:ext cx="1451160" cy="738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"/>
          <p:cNvPicPr/>
          <p:nvPr/>
        </p:nvPicPr>
        <p:blipFill>
          <a:blip r:embed="rId3"/>
          <a:stretch/>
        </p:blipFill>
        <p:spPr>
          <a:xfrm>
            <a:off x="3913200" y="3895560"/>
            <a:ext cx="1450800" cy="73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"/>
          <p:cNvPicPr/>
          <p:nvPr/>
        </p:nvPicPr>
        <p:blipFill>
          <a:blip r:embed="rId4"/>
          <a:stretch/>
        </p:blipFill>
        <p:spPr>
          <a:xfrm>
            <a:off x="1619280" y="3933720"/>
            <a:ext cx="1450800" cy="73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"/>
          <p:cNvPicPr/>
          <p:nvPr/>
        </p:nvPicPr>
        <p:blipFill>
          <a:blip r:embed="rId5"/>
          <a:stretch/>
        </p:blipFill>
        <p:spPr>
          <a:xfrm>
            <a:off x="6216480" y="2824200"/>
            <a:ext cx="1451160" cy="73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"/>
          <p:cNvPicPr/>
          <p:nvPr/>
        </p:nvPicPr>
        <p:blipFill>
          <a:blip r:embed="rId6"/>
          <a:stretch/>
        </p:blipFill>
        <p:spPr>
          <a:xfrm>
            <a:off x="3913200" y="2822400"/>
            <a:ext cx="1450800" cy="738360"/>
          </a:xfrm>
          <a:prstGeom prst="rect">
            <a:avLst/>
          </a:prstGeom>
          <a:ln w="0">
            <a:noFill/>
          </a:ln>
        </p:spPr>
      </p:pic>
      <p:sp>
        <p:nvSpPr>
          <p:cNvPr id="206" name="矩形 7"/>
          <p:cNvSpPr/>
          <p:nvPr/>
        </p:nvSpPr>
        <p:spPr>
          <a:xfrm>
            <a:off x="2987640" y="333360"/>
            <a:ext cx="122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　　　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3"/>
          <p:cNvSpPr/>
          <p:nvPr/>
        </p:nvSpPr>
        <p:spPr>
          <a:xfrm>
            <a:off x="1791720" y="2838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融 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4"/>
          <p:cNvSpPr/>
          <p:nvPr/>
        </p:nvSpPr>
        <p:spPr>
          <a:xfrm>
            <a:off x="4123800" y="2822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缤 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5"/>
          <p:cNvSpPr/>
          <p:nvPr/>
        </p:nvSpPr>
        <p:spPr>
          <a:xfrm>
            <a:off x="6428520" y="2838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熏 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25"/>
          <p:cNvSpPr/>
          <p:nvPr/>
        </p:nvSpPr>
        <p:spPr>
          <a:xfrm>
            <a:off x="1806840" y="3944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奉 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26"/>
          <p:cNvSpPr/>
          <p:nvPr/>
        </p:nvSpPr>
        <p:spPr>
          <a:xfrm>
            <a:off x="4093560" y="3909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夜 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27"/>
          <p:cNvSpPr/>
          <p:nvPr/>
        </p:nvSpPr>
        <p:spPr>
          <a:xfrm>
            <a:off x="6401520" y="3924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亚 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3"/>
          <p:cNvSpPr/>
          <p:nvPr/>
        </p:nvSpPr>
        <p:spPr>
          <a:xfrm>
            <a:off x="1042920" y="1488960"/>
            <a:ext cx="72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填上合适的关联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夹竹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是最美丽的花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却喜欢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夹竹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韧性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带给我奇妙的幻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夹竹桃有这样的韧性，能引起我的幻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爱上了夹竹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2"/>
          <p:cNvSpPr/>
          <p:nvPr/>
        </p:nvSpPr>
        <p:spPr>
          <a:xfrm>
            <a:off x="2806560" y="2160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虽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7"/>
          <p:cNvSpPr/>
          <p:nvPr/>
        </p:nvSpPr>
        <p:spPr>
          <a:xfrm>
            <a:off x="633528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但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8"/>
          <p:cNvSpPr/>
          <p:nvPr/>
        </p:nvSpPr>
        <p:spPr>
          <a:xfrm>
            <a:off x="2892240" y="3257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9"/>
          <p:cNvSpPr/>
          <p:nvPr/>
        </p:nvSpPr>
        <p:spPr>
          <a:xfrm>
            <a:off x="5340960" y="3243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而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0"/>
          <p:cNvSpPr/>
          <p:nvPr/>
        </p:nvSpPr>
        <p:spPr>
          <a:xfrm>
            <a:off x="1989720" y="433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1"/>
          <p:cNvSpPr/>
          <p:nvPr/>
        </p:nvSpPr>
        <p:spPr>
          <a:xfrm>
            <a:off x="2788920" y="4892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3"/>
          <p:cNvSpPr/>
          <p:nvPr/>
        </p:nvSpPr>
        <p:spPr>
          <a:xfrm>
            <a:off x="826920" y="1052640"/>
            <a:ext cx="741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这一点韧性，同庭院里那些花比起来，不是形成一个强烈的对照吗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陈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家有两盆夹竹桃，一盆红色的，一盆白色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为比喻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"/>
          <p:cNvSpPr/>
          <p:nvPr/>
        </p:nvSpPr>
        <p:spPr>
          <a:xfrm>
            <a:off x="1266840" y="2690640"/>
            <a:ext cx="71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一点韧性，同庭院里那些花比起来，形成一个强烈的对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4"/>
          <p:cNvSpPr/>
          <p:nvPr/>
        </p:nvSpPr>
        <p:spPr>
          <a:xfrm>
            <a:off x="1284120" y="48690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家有两盆夹竹桃，一盆红色的，红得如火，一盆白色的，白得如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888840" y="1227240"/>
            <a:ext cx="73724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在和煦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(xù)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的春风里，在盛夏的暴雨里，在深秋的清冷里，看不出什么特别茂盛的时候，也看不出什么特别衰败的时候，</a:t>
            </a:r>
            <a:r>
              <a:rPr b="1" lang="zh-CN" sz="2200" spc="-1" strike="noStrike">
                <a:solidFill>
                  <a:srgbClr val="0070c0"/>
                </a:solidFill>
                <a:latin typeface="楷体"/>
                <a:ea typeface="楷体"/>
              </a:rPr>
              <a:t>无日不迎风弄姿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。从春天一直到秋天，从迎春花一直到玉簪花和菊花，无不奉陪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871560" y="3319560"/>
            <a:ext cx="72626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 u="sng">
                <a:solidFill>
                  <a:srgbClr val="ff00ff"/>
                </a:solidFill>
                <a:uFillTx/>
                <a:latin typeface="宋体"/>
              </a:rPr>
              <a:t>排比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的句式写出了夹竹桃不管外界条件怎样变化，始终如一，不动声色，默默无闻地开放；“无日不迎风弄姿”，用</a:t>
            </a:r>
            <a:r>
              <a:rPr b="1" lang="zh-CN" sz="2200" spc="-1" strike="noStrike" u="sng">
                <a:solidFill>
                  <a:srgbClr val="ff00ff"/>
                </a:solidFill>
                <a:uFillTx/>
                <a:latin typeface="宋体"/>
              </a:rPr>
              <a:t>拟人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化的手法赞美了夹竹桃兢兢业业的品格；两个“从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直到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……”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句式凝练，写出了夹竹桃花期之长，流露出作者的赞美之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853920" y="1433520"/>
            <a:ext cx="76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仿写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“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里，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里，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仿写一个排比句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图片 24" descr="花盆.png"/>
          <p:cNvPicPr/>
          <p:nvPr/>
        </p:nvPicPr>
        <p:blipFill>
          <a:blip r:embed="rId1"/>
          <a:stretch/>
        </p:blipFill>
        <p:spPr>
          <a:xfrm>
            <a:off x="611280" y="158760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933480" y="3070080"/>
            <a:ext cx="76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次考试成绩最好的不是班长，也不是学习委员，却是体育委员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微风里，在细雨里，在声声的鸟鸣里，嫩嫩的柳芽悄悄地长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3"/>
          <p:cNvGrpSpPr/>
          <p:nvPr/>
        </p:nvGrpSpPr>
        <p:grpSpPr>
          <a:xfrm>
            <a:off x="5773680" y="3814920"/>
            <a:ext cx="3683160" cy="2717640"/>
            <a:chOff x="5773680" y="3814920"/>
            <a:chExt cx="3683160" cy="2717640"/>
          </a:xfrm>
        </p:grpSpPr>
        <p:pic>
          <p:nvPicPr>
            <p:cNvPr id="89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773680" y="381492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矩形 1"/>
            <p:cNvSpPr/>
            <p:nvPr/>
          </p:nvSpPr>
          <p:spPr>
            <a:xfrm>
              <a:off x="6063480" y="401508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句子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3"/>
          <p:cNvGrpSpPr/>
          <p:nvPr/>
        </p:nvGrpSpPr>
        <p:grpSpPr>
          <a:xfrm>
            <a:off x="747720" y="2106720"/>
            <a:ext cx="7683480" cy="558720"/>
            <a:chOff x="747720" y="2106720"/>
            <a:chExt cx="7683480" cy="558720"/>
          </a:xfrm>
        </p:grpSpPr>
        <p:sp>
          <p:nvSpPr>
            <p:cNvPr id="92" name="直接连接符 4"/>
            <p:cNvSpPr/>
            <p:nvPr/>
          </p:nvSpPr>
          <p:spPr>
            <a:xfrm>
              <a:off x="747720" y="26654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任意多边形 5"/>
            <p:cNvSpPr/>
            <p:nvPr/>
          </p:nvSpPr>
          <p:spPr>
            <a:xfrm>
              <a:off x="747720" y="210672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>
                <a:lnSpc>
                  <a:spcPct val="15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难点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：作者由月光下的夹竹桃产生了哪些想象？各表现了夹竹桃的什么特点？这样写的作用是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矩形 1"/>
          <p:cNvSpPr/>
          <p:nvPr/>
        </p:nvSpPr>
        <p:spPr>
          <a:xfrm>
            <a:off x="774720" y="284004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想象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成地图，表现了夹竹桃的形态美；想象成荇藻，表现了夹竹桃的动态美；想象成墨竹，表现了夹竹桃的意境美和质感美。这些对夹竹桃的想象从不同角度展现了夹竹桃的美，同时也表达出作者对夹竹桃的无比喜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21"/>
          <p:cNvSpPr/>
          <p:nvPr/>
        </p:nvSpPr>
        <p:spPr>
          <a:xfrm>
            <a:off x="831960" y="90000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想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3"/>
          <p:cNvSpPr/>
          <p:nvPr/>
        </p:nvSpPr>
        <p:spPr>
          <a:xfrm>
            <a:off x="903240" y="1798560"/>
            <a:ext cx="734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什么是想象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象是以正在描写的对象为依据，对于不在眼前的事物想出它的具体形象，并描述出来的写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想象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文章内容更生动，更丰富，更有内涵，更富有文学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运用想象的题有什么答题技巧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围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了想象，表现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线连接符 7"/>
          <p:cNvSpPr/>
          <p:nvPr/>
        </p:nvSpPr>
        <p:spPr>
          <a:xfrm>
            <a:off x="914400" y="182412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这样的韧性，能这样引起我的幻想，我爱上了夹竹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云形 1"/>
          <p:cNvGrpSpPr/>
          <p:nvPr/>
        </p:nvGrpSpPr>
        <p:grpSpPr>
          <a:xfrm>
            <a:off x="4700520" y="1987560"/>
            <a:ext cx="3870360" cy="987480"/>
            <a:chOff x="4700520" y="1987560"/>
            <a:chExt cx="3870360" cy="987480"/>
          </a:xfrm>
        </p:grpSpPr>
        <p:pic>
          <p:nvPicPr>
            <p:cNvPr id="100" name="云形 1" descr=""/>
            <p:cNvPicPr/>
            <p:nvPr/>
          </p:nvPicPr>
          <p:blipFill>
            <a:blip r:embed="rId1"/>
            <a:stretch/>
          </p:blipFill>
          <p:spPr>
            <a:xfrm>
              <a:off x="4700520" y="1987560"/>
              <a:ext cx="38703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340320" y="22161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全文的总结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6"/>
          <p:cNvGrpSpPr/>
          <p:nvPr/>
        </p:nvGrpSpPr>
        <p:grpSpPr>
          <a:xfrm>
            <a:off x="873000" y="3035160"/>
            <a:ext cx="7683480" cy="560520"/>
            <a:chOff x="873000" y="3035160"/>
            <a:chExt cx="7683480" cy="560520"/>
          </a:xfrm>
        </p:grpSpPr>
        <p:sp>
          <p:nvSpPr>
            <p:cNvPr id="103" name="直接连接符 7"/>
            <p:cNvSpPr/>
            <p:nvPr/>
          </p:nvSpPr>
          <p:spPr>
            <a:xfrm>
              <a:off x="873000" y="359568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任意多边形 8"/>
            <p:cNvSpPr/>
            <p:nvPr/>
          </p:nvSpPr>
          <p:spPr>
            <a:xfrm>
              <a:off x="873000" y="303516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最后一段在文中的作用是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矩形 4"/>
          <p:cNvSpPr/>
          <p:nvPr/>
        </p:nvSpPr>
        <p:spPr>
          <a:xfrm>
            <a:off x="892080" y="376884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总结全文，说明夹竹桃从春到秋不停开放的韧性和月光下能引起幻想的特点，这是“我”喜爱它的原因，也照应了开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—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它却是我最喜爱的花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"/>
          <p:cNvSpPr/>
          <p:nvPr/>
        </p:nvSpPr>
        <p:spPr>
          <a:xfrm>
            <a:off x="844560" y="154764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红色的花朵让我想到</a:t>
            </a:r>
            <a:r>
              <a:rPr b="1" lang="zh-CN" sz="2200" spc="-1" strike="noStrike">
                <a:solidFill>
                  <a:srgbClr val="0070c0"/>
                </a:solidFill>
                <a:latin typeface="楷体"/>
                <a:ea typeface="楷体"/>
              </a:rPr>
              <a:t>火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白色的花朵让我想到</a:t>
            </a:r>
            <a:r>
              <a:rPr b="1" lang="zh-CN" sz="2200" spc="-1" strike="noStrike">
                <a:solidFill>
                  <a:srgbClr val="0070c0"/>
                </a:solidFill>
                <a:latin typeface="楷体"/>
                <a:ea typeface="楷体"/>
              </a:rPr>
              <a:t>雪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873000" y="2639880"/>
            <a:ext cx="78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巧妙地将夹竹桃的花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比喻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成火与雪，形象地写出了红色、白色的花交相辉映的景象。火与雪本不能共存，但这两盆花却极其融洽地开在一起，在视觉上形成了强烈的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对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让读者读起来多了几分趣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06:39:38Z</dcterms:modified>
  <cp:revision>4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